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66400" y="914076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68952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266400" y="914076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68952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0468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74260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26640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50468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874260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8952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266400" y="8470440"/>
            <a:ext cx="1253484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125348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68952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266400" y="914076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68952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0468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74260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6640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50468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74260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0468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874260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26640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450468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874260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266400" y="8470440"/>
            <a:ext cx="1253484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125348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68952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266400" y="914076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668952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0468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74260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26640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450468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874260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266400" y="8470440"/>
            <a:ext cx="1253484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125348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266400" y="8470440"/>
            <a:ext cx="1253484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68952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266400" y="914076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668952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0468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74260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26640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450468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874260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266400" y="8470440"/>
            <a:ext cx="1253484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125348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125348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68952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266400" y="914076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68952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0468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74260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26640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450468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874260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266400" y="8470440"/>
            <a:ext cx="1253484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125348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68952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266400" y="914076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68952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0468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874260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26640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450468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874260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266400" y="8470440"/>
            <a:ext cx="1253484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125348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68952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266400" y="914076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668952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50468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874260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26640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450468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874260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266400" y="8470440"/>
            <a:ext cx="1253484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125348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68952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266400" y="914076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668952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0468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874260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26640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50468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874260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266400" y="8470440"/>
            <a:ext cx="1253484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125348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66400" y="8470440"/>
            <a:ext cx="1253484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8952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68952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266400" y="914076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68952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0468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74260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26640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450468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874260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266400" y="8470440"/>
            <a:ext cx="1253484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125348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68952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266400" y="914076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668952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0468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874260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26640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450468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874260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266400" y="8470440"/>
            <a:ext cx="1253484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125348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66400" y="914076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68952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266400" y="914076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668952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50468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874260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26640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450468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874260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8952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266400" y="8470440"/>
            <a:ext cx="1253484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125348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68952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266400" y="914076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668952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0468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4260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26640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50468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74260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50468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874260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26640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450468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874260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66400" y="8470440"/>
            <a:ext cx="1253484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125348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125348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68952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66400" y="914076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8952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0468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74260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26640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50468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874260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66400" y="8470440"/>
            <a:ext cx="1253484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125348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68952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66400" y="914076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68952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0468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74260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6640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50468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874260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266400" y="8470440"/>
            <a:ext cx="1253484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125348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68952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266400" y="914076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68952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0468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74260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26640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50468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874260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266400" y="8470440"/>
            <a:ext cx="1253484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125348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68952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66400" y="914076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68952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0468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74260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26640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50468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74260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266400" y="8470440"/>
            <a:ext cx="1253484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125348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8952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68952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266400" y="914076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68952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0468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74260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26640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50468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874260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266400" y="8470440"/>
            <a:ext cx="1253484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125348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68952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266400" y="9140760"/>
            <a:ext cx="1253484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689520" y="847044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26640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689520" y="9140760"/>
            <a:ext cx="61167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0468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742600" y="847044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26640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50468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8742600" y="9140760"/>
            <a:ext cx="4035960" cy="6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266400" y="8470440"/>
            <a:ext cx="1253484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66400" y="8470440"/>
            <a:ext cx="125348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66400" y="8470440"/>
            <a:ext cx="125348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571320" y="2323800"/>
            <a:ext cx="5079960" cy="742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5872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0332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4792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216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2160" indent="-26640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2160" indent="-26640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"/>
          <p:cNvSpPr/>
          <p:nvPr/>
        </p:nvSpPr>
        <p:spPr>
          <a:xfrm>
            <a:off x="647640" y="1968480"/>
            <a:ext cx="4876920" cy="144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571320" y="0"/>
            <a:ext cx="5079960" cy="172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11861640" cy="172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5" name=""/>
          <p:cNvSpPr/>
          <p:nvPr/>
        </p:nvSpPr>
        <p:spPr>
          <a:xfrm>
            <a:off x="647640" y="1968480"/>
            <a:ext cx="11709360" cy="144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571320" y="2323800"/>
            <a:ext cx="11861640" cy="742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5872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0332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4792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216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2160" indent="-26640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2160" indent="-26640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571320" y="2323800"/>
            <a:ext cx="5079960" cy="742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5872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0332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4792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216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2160" indent="-26640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2160" indent="-26640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571320" y="0"/>
            <a:ext cx="11861640" cy="172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5" name=""/>
          <p:cNvSpPr/>
          <p:nvPr/>
        </p:nvSpPr>
        <p:spPr>
          <a:xfrm>
            <a:off x="647640" y="1968480"/>
            <a:ext cx="11709360" cy="144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8368920" y="2323800"/>
            <a:ext cx="4064040" cy="742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231840" indent="-23184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486000" indent="-23184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872640" indent="-23184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59640" indent="-23184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45920" indent="-23148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45920" indent="-23148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45920" indent="-23148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571320" y="0"/>
            <a:ext cx="11861640" cy="172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4" name=""/>
          <p:cNvSpPr/>
          <p:nvPr/>
        </p:nvSpPr>
        <p:spPr>
          <a:xfrm>
            <a:off x="647640" y="1968480"/>
            <a:ext cx="11709360" cy="144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3064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529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3752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7974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79748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79748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11861640" cy="172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9" name=""/>
          <p:cNvSpPr/>
          <p:nvPr/>
        </p:nvSpPr>
        <p:spPr>
          <a:xfrm>
            <a:off x="647640" y="1968480"/>
            <a:ext cx="11709360" cy="144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body"/>
          </p:nvPr>
        </p:nvSpPr>
        <p:spPr>
          <a:xfrm>
            <a:off x="571320" y="2323800"/>
            <a:ext cx="11861640" cy="742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5872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0332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4792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216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2160" indent="-26640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2160" indent="-26640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title"/>
          </p:nvPr>
        </p:nvSpPr>
        <p:spPr>
          <a:xfrm>
            <a:off x="571320" y="0"/>
            <a:ext cx="11861640" cy="172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8" name=""/>
          <p:cNvSpPr/>
          <p:nvPr/>
        </p:nvSpPr>
        <p:spPr>
          <a:xfrm>
            <a:off x="647640" y="1968480"/>
            <a:ext cx="11709360" cy="144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body"/>
          </p:nvPr>
        </p:nvSpPr>
        <p:spPr>
          <a:xfrm>
            <a:off x="571320" y="5016600"/>
            <a:ext cx="5079960" cy="473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"/>
          <p:cNvSpPr/>
          <p:nvPr/>
        </p:nvSpPr>
        <p:spPr>
          <a:xfrm>
            <a:off x="647640" y="4749840"/>
            <a:ext cx="4881600" cy="144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title"/>
          </p:nvPr>
        </p:nvSpPr>
        <p:spPr>
          <a:xfrm>
            <a:off x="571320" y="0"/>
            <a:ext cx="5079960" cy="449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body"/>
          </p:nvPr>
        </p:nvSpPr>
        <p:spPr>
          <a:xfrm>
            <a:off x="571320" y="5016600"/>
            <a:ext cx="11861640" cy="473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"/>
          <p:cNvSpPr/>
          <p:nvPr/>
        </p:nvSpPr>
        <p:spPr>
          <a:xfrm>
            <a:off x="647640" y="4749840"/>
            <a:ext cx="11709360" cy="144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title"/>
          </p:nvPr>
        </p:nvSpPr>
        <p:spPr>
          <a:xfrm>
            <a:off x="571320" y="0"/>
            <a:ext cx="11861640" cy="449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266400" y="8470440"/>
            <a:ext cx="125348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39" name=""/>
          <p:cNvSpPr/>
          <p:nvPr/>
        </p:nvSpPr>
        <p:spPr>
          <a:xfrm flipH="1">
            <a:off x="282240" y="8129520"/>
            <a:ext cx="1241748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93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9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" name=""/>
          <p:cNvSpPr/>
          <p:nvPr/>
        </p:nvSpPr>
        <p:spPr>
          <a:xfrm>
            <a:off x="6488280" y="4476600"/>
            <a:ext cx="599580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93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9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7" name=""/>
          <p:cNvSpPr/>
          <p:nvPr/>
        </p:nvSpPr>
        <p:spPr>
          <a:xfrm>
            <a:off x="9066240" y="3092400"/>
            <a:ext cx="343044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8" name=""/>
          <p:cNvSpPr/>
          <p:nvPr/>
        </p:nvSpPr>
        <p:spPr>
          <a:xfrm>
            <a:off x="9066240" y="5873760"/>
            <a:ext cx="3430440" cy="14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93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9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501960" y="1803240"/>
            <a:ext cx="180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93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9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93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9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93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9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93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9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obileawards.com.au/MA2013/entry_details.asp?ID=11729&amp;Category_ID=5398" TargetMode="External"/><Relationship Id="rId2" Type="http://schemas.openxmlformats.org/officeDocument/2006/relationships/hyperlink" Target="http://www.dailyadvertiser.com.au/story/1711371/365-reasons-to-be-h-app-y/" TargetMode="External"/><Relationship Id="rId3" Type="http://schemas.openxmlformats.org/officeDocument/2006/relationships/hyperlink" Target="http://www.youtube.com/watch?v=BVWtfolqCbM" TargetMode="External"/><Relationship Id="rId4" Type="http://schemas.openxmlformats.org/officeDocument/2006/relationships/hyperlink" Target="http://nicta-vic.microevents.com.au/event/meet-the-founder-with-simone-eyles-marz-356cups" TargetMode="External"/><Relationship Id="rId5" Type="http://schemas.openxmlformats.org/officeDocument/2006/relationships/hyperlink" Target="http://www.skynews.com.au/programs/tbb/" TargetMode="External"/><Relationship Id="rId6" Type="http://schemas.openxmlformats.org/officeDocument/2006/relationships/hyperlink" Target="http://www.smh.com.au/small-business/startup/is-this-aussie-app-the-next-app-store-sensation-20130705-2pfwc.html%23ixzz2Yh0XcRus" TargetMode="External"/><Relationship Id="rId7" Type="http://schemas.openxmlformats.org/officeDocument/2006/relationships/hyperlink" Target="http://media.mytalk.com.au/2ue/audio/090713ybd.mp3" TargetMode="External"/><Relationship Id="rId8" Type="http://schemas.openxmlformats.org/officeDocument/2006/relationships/hyperlink" Target="http://nycprowler.com/tag/365cups/" TargetMode="External"/><Relationship Id="rId9" Type="http://schemas.openxmlformats.org/officeDocument/2006/relationships/hyperlink" Target="http://www.youtube.com/watch?feature=player_embedded&amp;v=-u1tmycr5NY" TargetMode="External"/><Relationship Id="rId10" Type="http://schemas.openxmlformats.org/officeDocument/2006/relationships/hyperlink" Target="http://www.dailyadvertiser.com.au/story/1627834/app-tastic-adventure-continues/?cs=332" TargetMode="External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ashable.com/2013/10/03/mobile-phones-2017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 flipH="1">
            <a:off x="282240" y="8129520"/>
            <a:ext cx="1241748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7835400" y="8470440"/>
            <a:ext cx="49532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Simone - Co-founder and Director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elvetica Neue"/>
              </a:rPr>
              <a:t>365cups.com - smart ordering</a:t>
            </a:r>
            <a:endParaRPr b="0" lang="en-US" sz="25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title"/>
          </p:nvPr>
        </p:nvSpPr>
        <p:spPr>
          <a:xfrm>
            <a:off x="228240" y="0"/>
            <a:ext cx="12509640" cy="812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Hello</a:t>
            </a:r>
            <a:br>
              <a:rPr sz="6400"/>
            </a:br>
            <a:r>
              <a:rPr b="0" lang="en-US" sz="6400" spc="-1" strike="noStrike">
                <a:solidFill>
                  <a:srgbClr val="000000"/>
                </a:solidFill>
                <a:latin typeface="Helvetica Neue Light"/>
              </a:rPr>
              <a:t>~</a:t>
            </a:r>
            <a:br>
              <a:rPr sz="6400"/>
            </a:br>
            <a:r>
              <a:rPr b="0" lang="en-US" sz="6400" spc="-1" strike="noStrike">
                <a:solidFill>
                  <a:srgbClr val="000000"/>
                </a:solidFill>
                <a:latin typeface="Helvetica Neue Light"/>
              </a:rPr>
              <a:t>Simone Eyles - co founde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365cups - smart ordering</a:t>
            </a:r>
            <a:endParaRPr b="0" lang="en-US" sz="64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 flipH="1">
            <a:off x="282240" y="8129520"/>
            <a:ext cx="1241748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7835400" y="8470440"/>
            <a:ext cx="49532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Simone - Co-founder and Director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elvetica Neue"/>
              </a:rPr>
              <a:t>365cups.com - smart ordering</a:t>
            </a:r>
            <a:endParaRPr b="0" lang="en-US" sz="2500" spc="-1" strike="noStrike">
              <a:solidFill>
                <a:srgbClr val="999999"/>
              </a:solidFill>
              <a:latin typeface="Helvetica Neue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title"/>
          </p:nvPr>
        </p:nvSpPr>
        <p:spPr>
          <a:xfrm>
            <a:off x="240840" y="0"/>
            <a:ext cx="12509640" cy="81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Our business model</a:t>
            </a:r>
            <a:br>
              <a:rPr sz="6400"/>
            </a:br>
            <a:br>
              <a:rPr sz="6400"/>
            </a:br>
            <a:br>
              <a:rPr sz="6400"/>
            </a:br>
            <a:br>
              <a:rPr sz="6400"/>
            </a:br>
            <a:br>
              <a:rPr sz="6400"/>
            </a:br>
            <a:br>
              <a:rPr sz="6400"/>
            </a:br>
            <a:r>
              <a:rPr b="1" lang="en-US" sz="4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Subscription Service - several vertical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ash flow positiv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1"/>
          <a:stretch/>
        </p:blipFill>
        <p:spPr>
          <a:xfrm>
            <a:off x="162000" y="1397160"/>
            <a:ext cx="13289040" cy="50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 flipH="1">
            <a:off x="282240" y="8129520"/>
            <a:ext cx="1241748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/>
          </p:nvPr>
        </p:nvSpPr>
        <p:spPr>
          <a:xfrm>
            <a:off x="7835400" y="8470440"/>
            <a:ext cx="49532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Simone - Co-founder and Director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elvetica Neue"/>
              </a:rPr>
              <a:t>365cups.com - smart ordering</a:t>
            </a:r>
            <a:endParaRPr b="0" lang="en-US" sz="2500" spc="-1" strike="noStrike">
              <a:solidFill>
                <a:srgbClr val="999999"/>
              </a:solidFill>
              <a:latin typeface="Helvetica Neue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title"/>
          </p:nvPr>
        </p:nvSpPr>
        <p:spPr>
          <a:xfrm>
            <a:off x="228240" y="-360"/>
            <a:ext cx="12509640" cy="81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1282680" y="1828800"/>
            <a:ext cx="11036160" cy="524520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/>
          <p:cNvPicPr/>
          <p:nvPr/>
        </p:nvPicPr>
        <p:blipFill>
          <a:blip r:embed="rId2"/>
          <a:stretch/>
        </p:blipFill>
        <p:spPr>
          <a:xfrm>
            <a:off x="6994440" y="6197760"/>
            <a:ext cx="1239840" cy="77472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3"/>
          <a:stretch/>
        </p:blipFill>
        <p:spPr>
          <a:xfrm>
            <a:off x="6883560" y="4622760"/>
            <a:ext cx="1460520" cy="1093680"/>
          </a:xfrm>
          <a:prstGeom prst="rect">
            <a:avLst/>
          </a:prstGeom>
          <a:ln w="0">
            <a:noFill/>
          </a:ln>
        </p:spPr>
      </p:pic>
      <p:sp>
        <p:nvSpPr>
          <p:cNvPr id="809" name=""/>
          <p:cNvSpPr/>
          <p:nvPr/>
        </p:nvSpPr>
        <p:spPr>
          <a:xfrm>
            <a:off x="4208400" y="419040"/>
            <a:ext cx="55771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0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Our financials</a:t>
            </a:r>
            <a:endParaRPr b="0" lang="en-US" sz="64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 flipH="1">
            <a:off x="282240" y="8129520"/>
            <a:ext cx="1241748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/>
          </p:nvPr>
        </p:nvSpPr>
        <p:spPr>
          <a:xfrm>
            <a:off x="7835400" y="8470440"/>
            <a:ext cx="49532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Simone - Co-founder and Director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elvetica Neue"/>
              </a:rPr>
              <a:t>365cups.com - smart ordering</a:t>
            </a:r>
            <a:endParaRPr b="0" lang="en-US" sz="2500" spc="-1" strike="noStrike">
              <a:solidFill>
                <a:srgbClr val="999999"/>
              </a:solidFill>
              <a:latin typeface="Helvetica Neue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title"/>
          </p:nvPr>
        </p:nvSpPr>
        <p:spPr>
          <a:xfrm>
            <a:off x="228240" y="0"/>
            <a:ext cx="12509640" cy="812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IF ...</a:t>
            </a:r>
            <a:br>
              <a:rPr sz="6400"/>
            </a:br>
            <a:r>
              <a:rPr b="0" lang="en-US" sz="6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we where a ticket clipping model</a:t>
            </a:r>
            <a:br>
              <a:rPr sz="64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Q: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 would we have so much business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... would we have contracts with enterprise?</a:t>
            </a:r>
            <a:br>
              <a:rPr sz="3600"/>
            </a:br>
            <a:br>
              <a:rPr sz="1200"/>
            </a:br>
            <a:r>
              <a:rPr b="1" i="1" lang="en-US" sz="36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nswer: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 We will never know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Q: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 Based on our real numbers in the system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would you have made more money?</a:t>
            </a:r>
            <a:br>
              <a:rPr sz="3600"/>
            </a:br>
            <a:br>
              <a:rPr sz="1200"/>
            </a:br>
            <a:r>
              <a:rPr b="1" lang="en-US" sz="6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: NO!</a:t>
            </a:r>
            <a:endParaRPr b="0" lang="en-US" sz="64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 flipH="1">
            <a:off x="282240" y="8129520"/>
            <a:ext cx="1241748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7835400" y="8470440"/>
            <a:ext cx="49532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Simone - Co-founder and Director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elvetica Neue"/>
              </a:rPr>
              <a:t>365cups.com - smart ordering</a:t>
            </a:r>
            <a:endParaRPr b="0" lang="en-US" sz="2500" spc="-1" strike="noStrike">
              <a:solidFill>
                <a:srgbClr val="999999"/>
              </a:solidFill>
              <a:latin typeface="Helvetica Neue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title"/>
          </p:nvPr>
        </p:nvSpPr>
        <p:spPr>
          <a:xfrm>
            <a:off x="279000" y="786960"/>
            <a:ext cx="12509640" cy="81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rojected 365cups revenue 2014</a:t>
            </a:r>
            <a:br>
              <a:rPr sz="4800"/>
            </a:b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ヒラギノ角ゴ ProN W6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New Sales  </a:t>
            </a: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  $110k  -  190k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Subscription Revenue </a:t>
            </a: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  $160k  -  210k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Thermal Printers </a:t>
            </a: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  $70k    -  110k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ustom Dev </a:t>
            </a: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  $70k    -  110k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ヒラギノ角ゴ ProN W6"/>
              </a:rPr>
              <a:t>	</a:t>
            </a:r>
            <a:br>
              <a:rPr sz="2400"/>
            </a:br>
            <a:r>
              <a:rPr b="1" lang="en-US" sz="3600" spc="-1" strike="noStrike">
                <a:solidFill>
                  <a:srgbClr val="3f691e"/>
                </a:solidFill>
                <a:latin typeface="Helvetica Neue"/>
                <a:ea typeface="ヒラギノ角ゴ ProN W6"/>
              </a:rPr>
              <a:t>	</a:t>
            </a:r>
            <a:r>
              <a:rPr b="1" lang="en-US" sz="3600" spc="-1" strike="noStrike">
                <a:solidFill>
                  <a:srgbClr val="3f691e"/>
                </a:solidFill>
                <a:latin typeface="Helvetica Neue"/>
                <a:ea typeface="ヒラギノ角ゴ ProN W6"/>
              </a:rPr>
              <a:t>	</a:t>
            </a:r>
            <a:r>
              <a:rPr b="1" lang="en-US" sz="3600" spc="-1" strike="noStrike">
                <a:solidFill>
                  <a:srgbClr val="3f691e"/>
                </a:solidFill>
                <a:latin typeface="Helvetica Neue"/>
                <a:ea typeface="Helvetica Neue"/>
              </a:rPr>
              <a:t>Total Revenue </a:t>
            </a:r>
            <a:r>
              <a:rPr b="1" lang="en-US" sz="3600" spc="-1" strike="noStrike">
                <a:solidFill>
                  <a:srgbClr val="3f691e"/>
                </a:solidFill>
                <a:latin typeface="Helvetica Neue"/>
                <a:ea typeface="ヒラギノ角ゴ ProN W6"/>
              </a:rPr>
              <a:t>	</a:t>
            </a:r>
            <a:r>
              <a:rPr b="1" lang="en-US" sz="3600" spc="-1" strike="noStrike">
                <a:solidFill>
                  <a:srgbClr val="3f691e"/>
                </a:solidFill>
                <a:latin typeface="Helvetica Neue"/>
                <a:ea typeface="Helvetica Neue"/>
              </a:rPr>
              <a:t> $410k - $620k</a:t>
            </a:r>
            <a:br>
              <a:rPr sz="36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LUS our contracts ... </a:t>
            </a: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$XXX,XXX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ヒラギノ角ゴ ProN W6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ヒラギノ角ゴ ProN W6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6" name=""/>
          <p:cNvSpPr/>
          <p:nvPr/>
        </p:nvSpPr>
        <p:spPr>
          <a:xfrm>
            <a:off x="963720" y="457200"/>
            <a:ext cx="110487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90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Remember the 2.5M?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2% of 2.5M = $50k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ticket clipping model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 flipH="1">
            <a:off x="282240" y="8129520"/>
            <a:ext cx="1241748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/>
          </p:nvPr>
        </p:nvSpPr>
        <p:spPr>
          <a:xfrm>
            <a:off x="7835400" y="8470440"/>
            <a:ext cx="49532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Simone - Co-founder and Director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elvetica Neue"/>
              </a:rPr>
              <a:t>365cups.com - smart ordering</a:t>
            </a:r>
            <a:endParaRPr b="0" lang="en-US" sz="2500" spc="-1" strike="noStrike">
              <a:solidFill>
                <a:srgbClr val="999999"/>
              </a:solidFill>
              <a:latin typeface="Helvetica Neue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title"/>
          </p:nvPr>
        </p:nvSpPr>
        <p:spPr>
          <a:xfrm>
            <a:off x="228240" y="63360"/>
            <a:ext cx="12509640" cy="84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Unfair Advantage</a:t>
            </a:r>
            <a:br>
              <a:rPr sz="6400"/>
            </a:br>
            <a:br>
              <a:rPr sz="48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Global Platfor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White Label &amp; Franchise Mode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World class team!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ward winning reput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aying customer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Multi year deals wit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Retailers and Government</a:t>
            </a:r>
            <a:br>
              <a:rPr sz="3200"/>
            </a:b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nd I haven’t even told you about our thermal printer!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That’s another deck ...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 flipH="1">
            <a:off x="282240" y="8129520"/>
            <a:ext cx="1241748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/>
          </p:nvPr>
        </p:nvSpPr>
        <p:spPr>
          <a:xfrm>
            <a:off x="7835400" y="8470440"/>
            <a:ext cx="49532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Simone - Co-founder and Director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elvetica Neue"/>
              </a:rPr>
              <a:t>365cups.com - smart ordering</a:t>
            </a:r>
            <a:endParaRPr b="0" lang="en-US" sz="2500" spc="-1" strike="noStrike">
              <a:solidFill>
                <a:srgbClr val="999999"/>
              </a:solidFill>
              <a:latin typeface="Helvetica Neue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title"/>
          </p:nvPr>
        </p:nvSpPr>
        <p:spPr>
          <a:xfrm>
            <a:off x="228240" y="0"/>
            <a:ext cx="12509640" cy="812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Team 365cups</a:t>
            </a:r>
            <a:br>
              <a:rPr sz="6400"/>
            </a:br>
            <a:r>
              <a:rPr b="0" lang="en-US" sz="2400" spc="-1" strike="noStrike">
                <a:solidFill>
                  <a:srgbClr val="000000"/>
                </a:solidFill>
                <a:latin typeface="Helvetica Neue Light"/>
              </a:rPr>
              <a:t>Passionate, creative, innovative &amp; AGILE!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200"/>
            </a:br>
            <a:br>
              <a:rPr sz="2200"/>
            </a:br>
            <a:br>
              <a:rPr sz="2400"/>
            </a:br>
            <a:br>
              <a:rPr sz="2400"/>
            </a:br>
            <a:br>
              <a:rPr sz="12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3" name=""/>
          <p:cNvSpPr/>
          <p:nvPr/>
        </p:nvSpPr>
        <p:spPr>
          <a:xfrm>
            <a:off x="393840" y="1968480"/>
            <a:ext cx="12191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9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Simone Eyles - BDM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ustomer Acquisition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Business Development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Optimise customer relationships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Marketing and PR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hristopher Rowley - CFO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Financial Planning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Managing Financial Risk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Mariusz Stankiewicz - CTO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Software Engineer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System Management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iPhone, Android App Development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Exceptional creative and technical problem solver 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ontract Staff - Future Hires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1.5 contract technical developers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4+ customer support staff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4" name=""/>
          <p:cNvSpPr/>
          <p:nvPr/>
        </p:nvSpPr>
        <p:spPr>
          <a:xfrm>
            <a:off x="388800" y="5778360"/>
            <a:ext cx="1219212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903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f691e"/>
                </a:solidFill>
                <a:latin typeface="Helvetica Neue"/>
                <a:ea typeface="Helvetica Neue"/>
              </a:rPr>
              <a:t>PLUS!</a:t>
            </a:r>
            <a:r>
              <a:rPr b="0" lang="en-US" sz="2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Everything designed and developed IN HOUSE, Commercialisation Australia Grant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Skills and Knowledge 50k, Advance Innovation Accelerator, Bootstrapped,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US Mentor Top App in App Store in 12 countries, Innovation Patent and Trademark in Australia and NZ and Madrid Protocol for US and Europe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 flipH="1">
            <a:off x="282240" y="8129520"/>
            <a:ext cx="1241748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/>
          </p:nvPr>
        </p:nvSpPr>
        <p:spPr>
          <a:xfrm>
            <a:off x="7835400" y="8470440"/>
            <a:ext cx="49532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Simone - Co-founder and Director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elvetica Neue"/>
              </a:rPr>
              <a:t>365cups.com - smart ordering</a:t>
            </a:r>
            <a:endParaRPr b="0" lang="en-US" sz="2500" spc="-1" strike="noStrike">
              <a:solidFill>
                <a:srgbClr val="999999"/>
              </a:solidFill>
              <a:latin typeface="Helvetica Neue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title"/>
          </p:nvPr>
        </p:nvSpPr>
        <p:spPr>
          <a:xfrm>
            <a:off x="5956200" y="152280"/>
            <a:ext cx="6832800" cy="812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Wins so far!</a:t>
            </a:r>
            <a:br>
              <a:rPr sz="4800"/>
            </a:br>
            <a:r>
              <a:rPr b="1" lang="en-US" sz="15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Best App Food &amp; Drink 2012 &amp; 2013 Australian Mobile Awards</a:t>
            </a:r>
            <a:br>
              <a:rPr sz="1500"/>
            </a:br>
            <a:r>
              <a:rPr b="1" lang="en-US" sz="15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1"/>
              </a:rPr>
              <a:t>http://mobileawards.com.au/MA2013/entry_details.asp?ID=11729&amp;Category_ID=5398</a:t>
            </a:r>
            <a:br>
              <a:rPr sz="1500"/>
            </a:br>
            <a:br>
              <a:rPr sz="500"/>
            </a:br>
            <a:r>
              <a:rPr b="1" lang="en-US" sz="15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Winner, Excellence in Innovation NSW Business Chamber</a:t>
            </a:r>
            <a:br>
              <a:rPr sz="1500"/>
            </a:br>
            <a:r>
              <a:rPr b="1" lang="en-US" sz="15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2"/>
              </a:rPr>
              <a:t>http://www.dailyadvertiser.com.au/story/1711371/365-reasons-to-be-h-app-y/</a:t>
            </a:r>
            <a:br>
              <a:rPr sz="1500"/>
            </a:br>
            <a:br>
              <a:rPr sz="500"/>
            </a:br>
            <a:r>
              <a:rPr b="1" lang="en-US" sz="15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Featured on 60minutes in Australia and NZ</a:t>
            </a:r>
            <a:br>
              <a:rPr sz="1500"/>
            </a:br>
            <a:r>
              <a:rPr b="1" lang="en-US" sz="15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3"/>
              </a:rPr>
              <a:t>http://www.youtube.com/watch?v=BVWtfolqCbM</a:t>
            </a:r>
            <a:br>
              <a:rPr sz="1500"/>
            </a:br>
            <a:br>
              <a:rPr sz="500"/>
            </a:br>
            <a:r>
              <a:rPr b="1" lang="en-US" sz="15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resented at NICTA Meet the Founders</a:t>
            </a:r>
            <a:br>
              <a:rPr sz="1500"/>
            </a:br>
            <a:r>
              <a:rPr b="1" lang="en-US" sz="15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4"/>
              </a:rPr>
              <a:t>http://nicta-vic.microevents.com.au/event/meet-the-founder-with-simone-eyles-marz-356cups</a:t>
            </a:r>
            <a:br>
              <a:rPr sz="1500"/>
            </a:br>
            <a:br>
              <a:rPr sz="500"/>
            </a:br>
            <a:r>
              <a:rPr b="1" lang="en-US" sz="15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Featured on SKY News Australia</a:t>
            </a:r>
            <a:br>
              <a:rPr sz="1500"/>
            </a:br>
            <a:r>
              <a:rPr b="0" lang="en-US" sz="15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5"/>
              </a:rPr>
              <a:t>http://www.skynews.com.au/programs/tbb/</a:t>
            </a:r>
            <a:br>
              <a:rPr sz="1500"/>
            </a:br>
            <a:br>
              <a:rPr sz="500"/>
            </a:br>
            <a:r>
              <a:rPr b="1" lang="en-US" sz="15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Featured in Sydney Morning Herald</a:t>
            </a:r>
            <a:br>
              <a:rPr sz="1500"/>
            </a:br>
            <a:r>
              <a:rPr b="1" lang="en-US" sz="15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6"/>
              </a:rPr>
              <a:t>http://www.smh.com.au/small-business/startup/is-this-aussie-app-the-next-app-store-sensation-20130705-2pfwc.html#ixzz2Yh0XcRus</a:t>
            </a:r>
            <a:br>
              <a:rPr sz="1500"/>
            </a:br>
            <a:br>
              <a:rPr sz="500"/>
            </a:br>
            <a:r>
              <a:rPr b="1" lang="en-US" sz="15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Featured on 2UE Radio</a:t>
            </a:r>
            <a:br>
              <a:rPr sz="1500"/>
            </a:br>
            <a:r>
              <a:rPr b="1" lang="en-US" sz="15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7"/>
              </a:rPr>
              <a:t>  http://media.mytalk.com.au/2ue/audio/090713ybd.mp3</a:t>
            </a:r>
            <a:br>
              <a:rPr sz="1500"/>
            </a:br>
            <a:br>
              <a:rPr sz="500"/>
            </a:br>
            <a:r>
              <a:rPr b="1" lang="en-US" sz="15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Featured in NYC Prowler</a:t>
            </a:r>
            <a:br>
              <a:rPr sz="1500"/>
            </a:br>
            <a:r>
              <a:rPr b="1" lang="en-US" sz="15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8"/>
              </a:rPr>
              <a:t>http://nycprowler.com/tag/365cups/</a:t>
            </a:r>
            <a:br>
              <a:rPr sz="1500"/>
            </a:br>
            <a:br>
              <a:rPr sz="500"/>
            </a:br>
            <a:r>
              <a:rPr b="1" lang="en-US" sz="15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Featured on WIN News</a:t>
            </a:r>
            <a:br>
              <a:rPr sz="1500"/>
            </a:br>
            <a:r>
              <a:rPr b="1" lang="en-US" sz="15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9"/>
              </a:rPr>
              <a:t>http://www.youtube.com/watch?feature=player_embedded&amp;v=-u1tmycr5NY</a:t>
            </a:r>
            <a:br>
              <a:rPr sz="1500"/>
            </a:br>
            <a:br>
              <a:rPr sz="500"/>
            </a:br>
            <a:r>
              <a:rPr b="1" lang="en-US" sz="15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Featured in The Daily Advertiser</a:t>
            </a:r>
            <a:br>
              <a:rPr sz="1500"/>
            </a:br>
            <a:r>
              <a:rPr b="1" lang="en-US" sz="15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10"/>
              </a:rPr>
              <a:t>http://www.dailyadvertiser.com.au/story/1627834/app-tastic-adventure-continues/?cs=332</a:t>
            </a:r>
            <a:br>
              <a:rPr sz="1500"/>
            </a:br>
            <a:br>
              <a:rPr sz="500"/>
            </a:br>
            <a:r>
              <a:rPr b="1" lang="en-US" sz="15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Featured on Start up Smart</a:t>
            </a:r>
            <a:br>
              <a:rPr sz="1500"/>
            </a:br>
            <a:r>
              <a:rPr b="0" lang="en-US" sz="15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</a:rPr>
              <a:t>http://www.startupsmart.com.au/growth/start-up-profiles/365cups/201102221713.html</a:t>
            </a:r>
            <a:br>
              <a:rPr sz="1500"/>
            </a:br>
            <a:br>
              <a:rPr sz="1500"/>
            </a:br>
            <a:br>
              <a:rPr sz="2400"/>
            </a:br>
            <a:r>
              <a:rPr b="1" lang="en-US" sz="6400" spc="-1" strike="noStrike">
                <a:solidFill>
                  <a:srgbClr val="000000"/>
                </a:solidFill>
                <a:latin typeface="Helvetica Neue"/>
                <a:ea typeface="ヒラギノ角ゴ ProN W6"/>
              </a:rPr>
              <a:t>	</a:t>
            </a:r>
            <a:r>
              <a:rPr b="1" lang="en-US" sz="6400" spc="-1" strike="noStrike">
                <a:solidFill>
                  <a:srgbClr val="000000"/>
                </a:solidFill>
                <a:latin typeface="Helvetica Neue"/>
                <a:ea typeface="ヒラギノ角ゴ ProN W6"/>
              </a:rPr>
              <a:t>	</a:t>
            </a:r>
            <a:r>
              <a:rPr b="1" lang="en-US" sz="6400" spc="-1" strike="noStrike">
                <a:solidFill>
                  <a:srgbClr val="000000"/>
                </a:solidFill>
                <a:latin typeface="Helvetica Neue"/>
                <a:ea typeface="ヒラギノ角ゴ ProN W6"/>
              </a:rPr>
              <a:t>	</a:t>
            </a:r>
            <a:r>
              <a:rPr b="1" lang="en-US" sz="6400" spc="-1" strike="noStrike">
                <a:solidFill>
                  <a:srgbClr val="000000"/>
                </a:solidFill>
                <a:latin typeface="Helvetica Neue"/>
                <a:ea typeface="ヒラギノ角ゴ ProN W6"/>
              </a:rPr>
              <a:t>	</a:t>
            </a:r>
            <a:r>
              <a:rPr b="1" lang="en-US" sz="6400" spc="-1" strike="noStrike">
                <a:solidFill>
                  <a:srgbClr val="000000"/>
                </a:solidFill>
                <a:latin typeface="Helvetica Neue"/>
                <a:ea typeface="ヒラギノ角ゴ ProN W6"/>
              </a:rPr>
              <a:t>	</a:t>
            </a:r>
            <a:endParaRPr b="0" lang="en-US" sz="64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1"/>
          <a:stretch/>
        </p:blipFill>
        <p:spPr>
          <a:xfrm>
            <a:off x="711360" y="393840"/>
            <a:ext cx="5076720" cy="67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 flipH="1">
            <a:off x="282240" y="8129520"/>
            <a:ext cx="1241748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/>
          </p:nvPr>
        </p:nvSpPr>
        <p:spPr>
          <a:xfrm>
            <a:off x="7835400" y="8470440"/>
            <a:ext cx="49532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Simone - Co-founder and Director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elvetica Neue"/>
              </a:rPr>
              <a:t>365cups.com - smart ordering</a:t>
            </a:r>
            <a:endParaRPr b="0" lang="en-US" sz="2500" spc="-1" strike="noStrike">
              <a:solidFill>
                <a:srgbClr val="999999"/>
              </a:solidFill>
              <a:latin typeface="Helvetica Neue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9999"/>
              </a:solidFill>
              <a:latin typeface="Helvetica Neue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9999"/>
              </a:solidFill>
              <a:latin typeface="Helvetica Neue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title"/>
          </p:nvPr>
        </p:nvSpPr>
        <p:spPr>
          <a:xfrm>
            <a:off x="240840" y="0"/>
            <a:ext cx="12509640" cy="81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What’s next for 365cups</a:t>
            </a:r>
            <a:br>
              <a:rPr sz="6400"/>
            </a:br>
            <a:br>
              <a:rPr sz="2400"/>
            </a:br>
            <a:r>
              <a:rPr b="0" lang="en-US" sz="6400" spc="-1" strike="noStrike">
                <a:solidFill>
                  <a:srgbClr val="000000"/>
                </a:solidFill>
                <a:latin typeface="Helvetica Neue Light"/>
              </a:rPr>
              <a:t>Website launch 2014</a:t>
            </a:r>
            <a:br>
              <a:rPr sz="6400"/>
            </a:br>
            <a:r>
              <a:rPr b="0" lang="en-US" sz="6400" spc="-1" strike="noStrike">
                <a:solidFill>
                  <a:srgbClr val="000000"/>
                </a:solidFill>
                <a:latin typeface="Helvetica Neue Light"/>
              </a:rPr>
              <a:t>#ordernow web ordering</a:t>
            </a:r>
            <a:br>
              <a:rPr sz="6400"/>
            </a:br>
            <a:r>
              <a:rPr b="0" lang="en-US" sz="6400" spc="-1" strike="noStrike">
                <a:solidFill>
                  <a:srgbClr val="000000"/>
                </a:solidFill>
                <a:latin typeface="Helvetica Neue Light"/>
              </a:rPr>
              <a:t>Windows App</a:t>
            </a:r>
            <a:br>
              <a:rPr sz="6400"/>
            </a:br>
            <a:r>
              <a:rPr b="0" lang="en-US" sz="6400" spc="-1" strike="noStrike">
                <a:solidFill>
                  <a:srgbClr val="000000"/>
                </a:solidFill>
                <a:latin typeface="Helvetica Neue Light"/>
              </a:rPr>
              <a:t>talking to Mars, Virgin Australia, CommBank &amp; Retail Food Group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Tesco are looking at us!</a:t>
            </a:r>
            <a:endParaRPr b="0" lang="en-US" sz="64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 flipH="1">
            <a:off x="282240" y="8129520"/>
            <a:ext cx="1241748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/>
          </p:nvPr>
        </p:nvSpPr>
        <p:spPr>
          <a:xfrm>
            <a:off x="7835400" y="8470440"/>
            <a:ext cx="49532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Simone - Co-founder and Director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elvetica Neue"/>
              </a:rPr>
              <a:t>365cups.com - smart ordering</a:t>
            </a:r>
            <a:endParaRPr b="0" lang="en-US" sz="2500" spc="-1" strike="noStrike">
              <a:solidFill>
                <a:srgbClr val="999999"/>
              </a:solidFill>
              <a:latin typeface="Helvetica Neue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9999"/>
              </a:solidFill>
              <a:latin typeface="Helvetica Neue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9999"/>
              </a:solidFill>
              <a:latin typeface="Helvetica Neue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title"/>
          </p:nvPr>
        </p:nvSpPr>
        <p:spPr>
          <a:xfrm>
            <a:off x="228240" y="0"/>
            <a:ext cx="12509640" cy="81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What we want, use of funds</a:t>
            </a:r>
            <a:br>
              <a:rPr sz="6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64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5" name=""/>
          <p:cNvSpPr/>
          <p:nvPr/>
        </p:nvSpPr>
        <p:spPr>
          <a:xfrm>
            <a:off x="1181160" y="2336760"/>
            <a:ext cx="10922040" cy="49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Tech Developmen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- Build the team ou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- Hire our existing team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full time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- Teams to support or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enterprise clients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Market Acquisition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- Expand into the US and   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   UK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- Enter new markets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   hairdressing and beauty 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Total: 2.0M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 flipH="1">
            <a:off x="282240" y="8129520"/>
            <a:ext cx="1241748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/>
          </p:nvPr>
        </p:nvSpPr>
        <p:spPr>
          <a:xfrm>
            <a:off x="7835400" y="8470440"/>
            <a:ext cx="49532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Simone - Co-founder and Director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elvetica Neue"/>
              </a:rPr>
              <a:t>365cups.com - smart ordering</a:t>
            </a:r>
            <a:endParaRPr b="0" lang="en-US" sz="2500" spc="-1" strike="noStrike">
              <a:solidFill>
                <a:srgbClr val="999999"/>
              </a:solidFill>
              <a:latin typeface="Helvetica Neue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9999"/>
              </a:solidFill>
              <a:latin typeface="Helvetica Neue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9999"/>
              </a:solidFill>
              <a:latin typeface="Helvetica Neue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title"/>
          </p:nvPr>
        </p:nvSpPr>
        <p:spPr>
          <a:xfrm>
            <a:off x="228240" y="0"/>
            <a:ext cx="12509640" cy="812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Summary</a:t>
            </a:r>
            <a:br>
              <a:rPr sz="64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Global Smart Ordering Platfor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World Class Tea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Dominating the marke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roven business mode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Ready for global expansion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 flipH="1">
            <a:off x="282240" y="8129520"/>
            <a:ext cx="1241748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/>
          </p:nvPr>
        </p:nvSpPr>
        <p:spPr>
          <a:xfrm>
            <a:off x="7835400" y="8470440"/>
            <a:ext cx="49532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Simone - Co-founder and Director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elvetica Neue"/>
              </a:rPr>
              <a:t>365cups.com - smart ordering</a:t>
            </a:r>
            <a:endParaRPr b="0" lang="en-US" sz="2500" spc="-1" strike="noStrike">
              <a:solidFill>
                <a:srgbClr val="999999"/>
              </a:solidFill>
              <a:latin typeface="Helvetica Neue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9999"/>
              </a:solidFill>
              <a:latin typeface="Helvetica Neue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1"/>
          <a:stretch/>
        </p:blipFill>
        <p:spPr>
          <a:xfrm>
            <a:off x="1092240" y="2133720"/>
            <a:ext cx="10807560" cy="4000320"/>
          </a:xfrm>
          <a:prstGeom prst="rect">
            <a:avLst/>
          </a:prstGeom>
          <a:ln w="0">
            <a:noFill/>
          </a:ln>
        </p:spPr>
      </p:pic>
      <p:sp>
        <p:nvSpPr>
          <p:cNvPr id="772" name=""/>
          <p:cNvSpPr/>
          <p:nvPr/>
        </p:nvSpPr>
        <p:spPr>
          <a:xfrm>
            <a:off x="1181160" y="1028880"/>
            <a:ext cx="10706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{YAWN} Here we go another coffee ordering App...</a:t>
            </a:r>
            <a:endParaRPr b="0" lang="en-US" sz="3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3" name=""/>
          <p:cNvSpPr/>
          <p:nvPr/>
        </p:nvSpPr>
        <p:spPr>
          <a:xfrm>
            <a:off x="1079640" y="5842080"/>
            <a:ext cx="1070604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WRONG!</a:t>
            </a:r>
            <a:endParaRPr b="0" lang="en-US" sz="14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 flipH="1">
            <a:off x="282240" y="8129520"/>
            <a:ext cx="1241748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/>
          </p:nvPr>
        </p:nvSpPr>
        <p:spPr>
          <a:xfrm>
            <a:off x="7835400" y="8470440"/>
            <a:ext cx="49532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Simone - Co-founder and Director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elvetica Neue"/>
              </a:rPr>
              <a:t>365cups.com - smart ordering</a:t>
            </a:r>
            <a:endParaRPr b="0" lang="en-US" sz="2500" spc="-1" strike="noStrike">
              <a:solidFill>
                <a:srgbClr val="999999"/>
              </a:solidFill>
              <a:latin typeface="Helvetica Neue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9999"/>
              </a:solidFill>
              <a:latin typeface="Helvetica Neue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9999"/>
              </a:solidFill>
              <a:latin typeface="Helvetica Neue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title"/>
          </p:nvPr>
        </p:nvSpPr>
        <p:spPr>
          <a:xfrm>
            <a:off x="228240" y="0"/>
            <a:ext cx="12509640" cy="812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Thank you!</a:t>
            </a:r>
            <a:br>
              <a:rPr sz="6400"/>
            </a:br>
            <a:endParaRPr b="0" lang="en-US" sz="64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 flipH="1">
            <a:off x="282240" y="8129520"/>
            <a:ext cx="1241748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7835400" y="8470440"/>
            <a:ext cx="49532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Simone - Co-founder and Director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elvetica Neue"/>
              </a:rPr>
              <a:t>365cups.com - smart ordering</a:t>
            </a:r>
            <a:endParaRPr b="0" lang="en-US" sz="2500" spc="-1" strike="noStrike">
              <a:solidFill>
                <a:srgbClr val="999999"/>
              </a:solidFill>
              <a:latin typeface="Helvetica Neue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title"/>
          </p:nvPr>
        </p:nvSpPr>
        <p:spPr>
          <a:xfrm>
            <a:off x="240840" y="0"/>
            <a:ext cx="12509640" cy="812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200" spc="-1" strike="noStrike">
                <a:solidFill>
                  <a:srgbClr val="558e28"/>
                </a:solidFill>
                <a:latin typeface="Helvetica Neue"/>
                <a:ea typeface="Helvetica Neue"/>
              </a:rPr>
              <a:t>$2,500,000</a:t>
            </a:r>
            <a:endParaRPr b="0" lang="en-US" sz="15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 flipH="1">
            <a:off x="282240" y="8129520"/>
            <a:ext cx="1241748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7835400" y="8470440"/>
            <a:ext cx="49532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Simone - Co-founder and Director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elvetica Neue"/>
              </a:rPr>
              <a:t>365cups.com - smart ordering</a:t>
            </a:r>
            <a:endParaRPr b="0" lang="en-US" sz="2500" spc="-1" strike="noStrike">
              <a:solidFill>
                <a:srgbClr val="999999"/>
              </a:solidFill>
              <a:latin typeface="Helvetica Neue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title"/>
          </p:nvPr>
        </p:nvSpPr>
        <p:spPr>
          <a:xfrm>
            <a:off x="228240" y="0"/>
            <a:ext cx="12509640" cy="812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We started here ...</a:t>
            </a:r>
            <a:br>
              <a:rPr sz="6400"/>
            </a:br>
            <a:br>
              <a:rPr sz="1200"/>
            </a:b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Single, boutique cafes across Australia and NZ ...</a:t>
            </a:r>
            <a:br>
              <a:rPr sz="2400"/>
            </a:br>
            <a:br>
              <a:rPr sz="2400"/>
            </a:br>
            <a:r>
              <a:rPr b="1" lang="en-US" sz="7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Now we are here ...</a:t>
            </a:r>
            <a:br>
              <a:rPr sz="7200"/>
            </a:br>
            <a:r>
              <a:rPr b="1" lang="en-US" sz="36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Hotels in Bal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Food Trucks across New York</a:t>
            </a:r>
            <a:br>
              <a:rPr sz="6400"/>
            </a:br>
            <a:r>
              <a:rPr b="1" lang="en-US" sz="36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nterprise Agreements with major retailer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2 x 5 years contract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Solutions for government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ustom development for property groups</a:t>
            </a:r>
            <a:br>
              <a:rPr sz="3600"/>
            </a:br>
            <a:r>
              <a:rPr b="1" lang="en-US" sz="6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 </a:t>
            </a:r>
            <a:endParaRPr b="0" lang="en-US" sz="64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 flipH="1">
            <a:off x="282240" y="8129520"/>
            <a:ext cx="1241748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7835400" y="8470440"/>
            <a:ext cx="49532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Simone - Co-founder and Director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elvetica Neue"/>
              </a:rPr>
              <a:t>365cups.com - smart ordering</a:t>
            </a:r>
            <a:endParaRPr b="0" lang="en-US" sz="2500" spc="-1" strike="noStrike">
              <a:solidFill>
                <a:srgbClr val="999999"/>
              </a:solidFill>
              <a:latin typeface="Helvetica Neue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title"/>
          </p:nvPr>
        </p:nvSpPr>
        <p:spPr>
          <a:xfrm>
            <a:off x="228240" y="0"/>
            <a:ext cx="12509640" cy="812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roblem ...</a:t>
            </a:r>
            <a:br>
              <a:rPr sz="6400"/>
            </a:br>
            <a:br>
              <a:rPr sz="2400"/>
            </a:br>
            <a:r>
              <a:rPr b="1" lang="en-US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onsumer: why wait in line when you can order ahead ...</a:t>
            </a:r>
            <a:br>
              <a:rPr sz="3200"/>
            </a:br>
            <a:br>
              <a:rPr sz="2400"/>
            </a:br>
            <a:r>
              <a:rPr b="1" lang="en-US" sz="6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the </a:t>
            </a:r>
            <a:r>
              <a:rPr b="1" lang="en-US" sz="96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365cups</a:t>
            </a:r>
            <a:r>
              <a:rPr b="1" lang="en-US" sz="6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 solution</a:t>
            </a:r>
            <a:br>
              <a:rPr sz="64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The customer ... from the single cafe to the large multinational owns the data, customer, analytics, payment solution etc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NOT a third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The customer has their OWN App - and their own branding, their own story to tell about how and why to download it NOT another third party, like PayPal or google wallet or square!</a:t>
            </a:r>
            <a:br>
              <a:rPr sz="3200"/>
            </a:br>
            <a:br>
              <a:rPr sz="3600"/>
            </a:br>
            <a:r>
              <a:rPr b="1" lang="en-US" sz="6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 </a:t>
            </a:r>
            <a:endParaRPr b="0" lang="en-US" sz="64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 flipH="1">
            <a:off x="282240" y="8129520"/>
            <a:ext cx="1241748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/>
          </p:nvPr>
        </p:nvSpPr>
        <p:spPr>
          <a:xfrm>
            <a:off x="7835400" y="8470440"/>
            <a:ext cx="49532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Simone - Co-founder and Director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elvetica Neue"/>
              </a:rPr>
              <a:t>365cups.com - smart ordering</a:t>
            </a:r>
            <a:endParaRPr b="0" lang="en-US" sz="2500" spc="-1" strike="noStrike">
              <a:solidFill>
                <a:srgbClr val="999999"/>
              </a:solidFill>
              <a:latin typeface="Helvetica Neue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title"/>
          </p:nvPr>
        </p:nvSpPr>
        <p:spPr>
          <a:xfrm>
            <a:off x="228240" y="0"/>
            <a:ext cx="12509640" cy="812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we know what the </a:t>
            </a:r>
            <a:r>
              <a:rPr b="1" i="1" lang="en-US" sz="4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ustomer</a:t>
            </a:r>
            <a:r>
              <a:rPr b="0" lang="en-US" sz="4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 and </a:t>
            </a:r>
            <a:r>
              <a:rPr b="1" i="1" lang="en-US" sz="4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onsumer</a:t>
            </a:r>
            <a:r>
              <a:rPr b="0" lang="en-US" sz="4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 want, and we deliver!</a:t>
            </a:r>
            <a:br>
              <a:rPr sz="4800"/>
            </a:br>
            <a:br>
              <a:rPr sz="6400"/>
            </a:br>
            <a:r>
              <a:rPr b="0" lang="en-US" sz="4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The customer </a:t>
            </a:r>
            <a:r>
              <a:rPr b="1" i="1" lang="en-US" sz="4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wants</a:t>
            </a:r>
            <a:r>
              <a:rPr b="0" lang="en-US" sz="4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 to pay for our platfor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they see value in what we offer!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We are the invisible link between customer and consumer, it’s not about u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It’s about them!</a:t>
            </a:r>
            <a:br>
              <a:rPr sz="3600"/>
            </a:br>
            <a:br>
              <a:rPr sz="3600"/>
            </a:br>
            <a:r>
              <a:rPr b="1" lang="en-US" sz="6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 </a:t>
            </a:r>
            <a:endParaRPr b="0" lang="en-US" sz="64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 flipH="1">
            <a:off x="282240" y="8129520"/>
            <a:ext cx="1241748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/>
          </p:nvPr>
        </p:nvSpPr>
        <p:spPr>
          <a:xfrm>
            <a:off x="7835400" y="8470440"/>
            <a:ext cx="49532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Simone - Co-founder and Director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elvetica Neue"/>
              </a:rPr>
              <a:t>365cups.com - smart ordering</a:t>
            </a:r>
            <a:endParaRPr b="0" lang="en-US" sz="2500" spc="-1" strike="noStrike">
              <a:solidFill>
                <a:srgbClr val="999999"/>
              </a:solidFill>
              <a:latin typeface="Helvetica Neue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title"/>
          </p:nvPr>
        </p:nvSpPr>
        <p:spPr>
          <a:xfrm>
            <a:off x="228240" y="0"/>
            <a:ext cx="12509640" cy="812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The competition</a:t>
            </a:r>
            <a:br>
              <a:rPr sz="6400"/>
            </a:br>
            <a:r>
              <a:rPr b="1" lang="en-US" sz="4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ticket clipping model</a:t>
            </a:r>
            <a:br>
              <a:rPr sz="4800"/>
            </a:br>
            <a:br>
              <a:rPr sz="6400"/>
            </a:br>
            <a:br>
              <a:rPr sz="6400"/>
            </a:br>
            <a:br>
              <a:rPr sz="6400"/>
            </a:br>
            <a:br>
              <a:rPr sz="6400"/>
            </a:br>
            <a:br>
              <a:rPr sz="6400"/>
            </a:br>
            <a:br>
              <a:rPr sz="6400"/>
            </a:b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89" name="" descr=""/>
          <p:cNvPicPr/>
          <p:nvPr/>
        </p:nvPicPr>
        <p:blipFill>
          <a:blip r:embed="rId1"/>
          <a:stretch/>
        </p:blipFill>
        <p:spPr>
          <a:xfrm>
            <a:off x="2895480" y="2298600"/>
            <a:ext cx="2459160" cy="2425680"/>
          </a:xfrm>
          <a:prstGeom prst="rect">
            <a:avLst/>
          </a:prstGeom>
          <a:ln w="0">
            <a:noFill/>
          </a:ln>
        </p:spPr>
      </p:pic>
      <p:pic>
        <p:nvPicPr>
          <p:cNvPr id="790" name="" descr=""/>
          <p:cNvPicPr/>
          <p:nvPr/>
        </p:nvPicPr>
        <p:blipFill>
          <a:blip r:embed="rId2"/>
          <a:stretch/>
        </p:blipFill>
        <p:spPr>
          <a:xfrm>
            <a:off x="6870600" y="2247840"/>
            <a:ext cx="2540160" cy="2540160"/>
          </a:xfrm>
          <a:prstGeom prst="rect">
            <a:avLst/>
          </a:prstGeom>
          <a:ln w="0">
            <a:noFill/>
          </a:ln>
        </p:spPr>
      </p:pic>
      <p:pic>
        <p:nvPicPr>
          <p:cNvPr id="791" name="" descr=""/>
          <p:cNvPicPr/>
          <p:nvPr/>
        </p:nvPicPr>
        <p:blipFill>
          <a:blip r:embed="rId3"/>
          <a:stretch/>
        </p:blipFill>
        <p:spPr>
          <a:xfrm>
            <a:off x="2692440" y="4978440"/>
            <a:ext cx="2539800" cy="253980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4"/>
          <a:stretch/>
        </p:blipFill>
        <p:spPr>
          <a:xfrm>
            <a:off x="6350040" y="5270400"/>
            <a:ext cx="396252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 flipH="1">
            <a:off x="282240" y="8129520"/>
            <a:ext cx="1241748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7835400" y="8470440"/>
            <a:ext cx="49532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Simone - Co-founder and Director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elvetica Neue"/>
              </a:rPr>
              <a:t>365cups.com - smart ordering</a:t>
            </a:r>
            <a:endParaRPr b="0" lang="en-US" sz="2500" spc="-1" strike="noStrike">
              <a:solidFill>
                <a:srgbClr val="999999"/>
              </a:solidFill>
              <a:latin typeface="Helvetica Neue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title"/>
          </p:nvPr>
        </p:nvSpPr>
        <p:spPr>
          <a:xfrm>
            <a:off x="228240" y="0"/>
            <a:ext cx="12509640" cy="812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365cups</a:t>
            </a:r>
            <a:br>
              <a:rPr sz="6400"/>
            </a:br>
            <a:br>
              <a:rPr sz="3200"/>
            </a:br>
            <a:r>
              <a:rPr b="1" lang="en-US" sz="3200" spc="-1" strike="noStrike">
                <a:solidFill>
                  <a:srgbClr val="3f691e"/>
                </a:solidFill>
                <a:latin typeface="Helvetica Neue"/>
                <a:ea typeface="Helvetica Neue"/>
              </a:rPr>
              <a:t>GLOBAL PLATFORM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150+ clients across Australia, NZ, US and Asia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Works in any currency, country, timezon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3f691e"/>
                </a:solidFill>
                <a:latin typeface="Helvetica Neue"/>
                <a:ea typeface="Helvetica Neue"/>
              </a:rPr>
              <a:t>PAYING CUSTOME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Before any work is done, set up fees are paid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We have 50+ Branded Apps on the App Stor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10+ Franchised App + we do custom dev an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sell our very own thermal printer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3f691e"/>
                </a:solidFill>
                <a:latin typeface="Helvetica Neue"/>
                <a:ea typeface="Helvetica Neue"/>
              </a:rPr>
              <a:t>SUBSCRIPTION MODEL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Still earning money, because clients pay they are invested in the system and make it work, makes them sticky!</a:t>
            </a:r>
            <a:br>
              <a:rPr sz="3200"/>
            </a:br>
            <a:br>
              <a:rPr sz="6400"/>
            </a:br>
            <a:br>
              <a:rPr sz="6400"/>
            </a:br>
            <a:br>
              <a:rPr sz="6400"/>
            </a:b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 flipH="1">
            <a:off x="282240" y="8129520"/>
            <a:ext cx="1241748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/>
          </p:nvPr>
        </p:nvSpPr>
        <p:spPr>
          <a:xfrm>
            <a:off x="7835400" y="8470440"/>
            <a:ext cx="49532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Simone - Co-founder and Director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elvetica Neue"/>
              </a:rPr>
              <a:t>365cups.com - smart ordering</a:t>
            </a:r>
            <a:endParaRPr b="0" lang="en-US" sz="2500" spc="-1" strike="noStrike">
              <a:solidFill>
                <a:srgbClr val="999999"/>
              </a:solidFill>
              <a:latin typeface="Helvetica Neue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title"/>
          </p:nvPr>
        </p:nvSpPr>
        <p:spPr>
          <a:xfrm>
            <a:off x="228240" y="0"/>
            <a:ext cx="12509640" cy="812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5 BILLION PEOPLE</a:t>
            </a:r>
            <a:br>
              <a:rPr sz="9600"/>
            </a:br>
            <a:r>
              <a:rPr b="1" lang="en-US" sz="6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will use Mobile Phones by 2017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it is a 90B a year market!</a:t>
            </a:r>
            <a:br>
              <a:rPr sz="64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source: mashable</a:t>
            </a:r>
            <a:br>
              <a:rPr sz="18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1"/>
              </a:rPr>
              <a:t>http://mashable.com/2013/10/03/mobile-phones-2017/</a:t>
            </a:r>
            <a:br>
              <a:rPr sz="1800"/>
            </a:br>
            <a:br>
              <a:rPr sz="1800"/>
            </a:br>
            <a:r>
              <a:rPr b="1" i="1" lang="en-US" sz="6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If you aren’t offering smart ordering, you are missing out 2.5M so far ...</a:t>
            </a:r>
            <a:r>
              <a:rPr b="1" lang="en-US" sz="6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source: Simone 365cups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90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